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laser.wav" ContentType="audio/x-wav"/>
  <Override PartName="/ppt/media/image12.wmf" ContentType="image/x-wmf"/>
  <Override PartName="/ppt/media/image10.wmf" ContentType="image/x-wmf"/>
  <Override PartName="/ppt/media/image2.png" ContentType="image/png"/>
  <Override PartName="/ppt/media/image9.wmf" ContentType="image/x-wmf"/>
  <Override PartName="/ppt/media/image8.wmf" ContentType="image/x-wmf"/>
  <Override PartName="/ppt/media/image7.wmf" ContentType="image/x-wmf"/>
  <Override PartName="/ppt/media/image6.wmf" ContentType="image/x-wmf"/>
  <Override PartName="/ppt/media/image5.png" ContentType="image/png"/>
  <Override PartName="/ppt/media/whoosh.wav" ContentType="audio/x-wav"/>
  <Override PartName="/ppt/media/image13.wmf" ContentType="image/x-wmf"/>
  <Override PartName="/ppt/media/image4.wmf" ContentType="image/x-wmf"/>
  <Override PartName="/ppt/media/image3.png" ContentType="image/png"/>
  <Override PartName="/ppt/media/image11.wmf" ContentType="image/x-wmf"/>
  <Override PartName="/ppt/media/carbrake.wav" ContentType="audio/x-wav"/>
  <Override PartName="/ppt/media/image1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camera.wav" ContentType="audio/x-wav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type.wav" ContentType="audio/x-wav"/>
  <Override PartName="/ppt/media/image15.wmf" ContentType="image/x-wmf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0274-1666-4730-AE8B-FC95071DF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0BB2-6807-4036-8E67-70BF200C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265F-59F7-4C21-B530-70ED3FE9A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9480-1AF9-447E-9585-DB23E2E59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0B08-6BA1-4FAF-ACEB-D0FBD1B34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31A7-AFCC-4A2C-8849-C6286007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7BD3-6B8D-4625-8B67-9BA45290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DCAF-FB6E-43F5-ACF6-4562572F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5F2B-C1E1-4B13-9112-EC96E81E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8E41-ACEE-4B7E-A408-F8815955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7960-270D-49F9-B54A-A22D5A84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DC97-BEE1-48D2-9C99-9104EA3A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AB52-C08E-4256-9F81-5A66E873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03AC-0BA6-4366-90B7-641DD163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FE70-7EE8-43F4-8959-3A22D978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3019-E284-4541-9192-BA0F3E3DC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C2FF-330A-4671-B9D4-8CCB4D37C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879E-2198-472C-AD30-49AEEF0C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758C-8395-4398-90A5-6C0201CE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5FC7-03B6-4399-B0E3-0FD06450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4267-8807-4DF5-BAAA-50D64D3D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1BDD-427F-4E86-B4D1-76AD2A6E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A727-2B5C-4BD7-B593-6B25652F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4AC1-39EC-49FD-A810-A9177FF6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4C70-2857-47BA-BD94-B090AEF793E2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52B4-1FD0-4649-9F2C-1CCE852E0133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audio" Target="file:///tmp/home/.config/libreoffice/4/user/gallery/whoosh.wav" TargetMode="External"/><Relationship Id="rId4" Type="http://schemas.microsoft.com/office/2007/relationships/media" Target="file:///tmp/home/.config/libreoffice/4/user/gallery/whoosh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wmf"/><Relationship Id="rId3" Type="http://schemas.openxmlformats.org/officeDocument/2006/relationships/audio" Target="file:///tmp/home/.config/libreoffice/4/user/gallery/warnlite.wav" TargetMode="External"/><Relationship Id="rId4" Type="http://schemas.microsoft.com/office/2007/relationships/media" Target="file:///tmp/home/.config/libreoffice/4/user/gallery/warnlite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wmf"/><Relationship Id="rId3" Type="http://schemas.openxmlformats.org/officeDocument/2006/relationships/audio" Target="file:///tmp/home/.config/libreoffice/4/user/gallery/type.wav" TargetMode="External"/><Relationship Id="rId4" Type="http://schemas.microsoft.com/office/2007/relationships/media" Target="file:///tmp/home/.config/libreoffice/4/user/gallery/type.wav" TargetMode="External"/><Relationship Id="rId5" Type="http://schemas.openxmlformats.org/officeDocument/2006/relationships/image" Target="../media/image5.png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audio" Target="../media/carbrake.wav"/><Relationship Id="rId13" Type="http://schemas.openxmlformats.org/officeDocument/2006/relationships/audio" Target="../media/carbrake.wav"/><Relationship Id="rId14" Type="http://schemas.openxmlformats.org/officeDocument/2006/relationships/audio" Target="../media/carbrake.wav"/><Relationship Id="rId15" Type="http://schemas.openxmlformats.org/officeDocument/2006/relationships/audio" Target="../media/carbrake.wav"/><Relationship Id="rId16" Type="http://schemas.openxmlformats.org/officeDocument/2006/relationships/audio" Target="../media/carbrake.wav"/><Relationship Id="rId17" Type="http://schemas.openxmlformats.org/officeDocument/2006/relationships/audio" Target="../media/carbrake.wav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wmf"/><Relationship Id="rId3" Type="http://schemas.openxmlformats.org/officeDocument/2006/relationships/audio" Target="file:///tmp/home/.config/libreoffice/4/user/gallery/inshock.wav" TargetMode="External"/><Relationship Id="rId4" Type="http://schemas.microsoft.com/office/2007/relationships/media" Target="file:///tmp/home/.config/libreoffice/4/user/gallery/inshock.wav" TargetMode="External"/><Relationship Id="rId5" Type="http://schemas.openxmlformats.org/officeDocument/2006/relationships/image" Target="../media/image5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wmf"/><Relationship Id="rId3" Type="http://schemas.openxmlformats.org/officeDocument/2006/relationships/audio" Target="file:///tmp/home/.config/libreoffice/4/user/gallery/rodney.wav" TargetMode="External"/><Relationship Id="rId4" Type="http://schemas.microsoft.com/office/2007/relationships/media" Target="file:///tmp/home/.config/libreoffice/4/user/gallery/rodney.wav" TargetMode="External"/><Relationship Id="rId5" Type="http://schemas.openxmlformats.org/officeDocument/2006/relationships/image" Target="../media/image5.png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wmf"/><Relationship Id="rId3" Type="http://schemas.openxmlformats.org/officeDocument/2006/relationships/audio" Target="file:///tmp/home/.config/libreoffice/4/user/gallery/puleeze.wav" TargetMode="External"/><Relationship Id="rId4" Type="http://schemas.microsoft.com/office/2007/relationships/media" Target="file:///tmp/home/.config/libreoffice/4/user/gallery/puleeze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wmf"/><Relationship Id="rId3" Type="http://schemas.openxmlformats.org/officeDocument/2006/relationships/audio" Target="file:///tmp/home/.config/libreoffice/4/user/gallery/camera.wav" TargetMode="External"/><Relationship Id="rId4" Type="http://schemas.microsoft.com/office/2007/relationships/media" Target="file:///tmp/home/.config/libreoffice/4/user/gallery/camera.wav" TargetMode="External"/><Relationship Id="rId5" Type="http://schemas.openxmlformats.org/officeDocument/2006/relationships/image" Target="../media/image5.png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audio" Target="../media/carbrake.wav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wmf"/><Relationship Id="rId3" Type="http://schemas.openxmlformats.org/officeDocument/2006/relationships/audio" Target="file:///tmp/home/.config/libreoffice/4/user/gallery/housprob.wav" TargetMode="External"/><Relationship Id="rId4" Type="http://schemas.microsoft.com/office/2007/relationships/media" Target="file:///tmp/home/.config/libreoffice/4/user/gallery/housprob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wmf"/><Relationship Id="rId3" Type="http://schemas.openxmlformats.org/officeDocument/2006/relationships/audio" Target="file:///tmp/home/.config/libreoffice/4/user/gallery/screwey.wav" TargetMode="External"/><Relationship Id="rId4" Type="http://schemas.microsoft.com/office/2007/relationships/media" Target="file:///tmp/home/.config/libreoffice/4/user/gallery/screwey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wmf"/><Relationship Id="rId3" Type="http://schemas.openxmlformats.org/officeDocument/2006/relationships/audio" Target="file:///tmp/home/.config/libreoffice/4/user/gallery/worse.wav" TargetMode="External"/><Relationship Id="rId4" Type="http://schemas.microsoft.com/office/2007/relationships/media" Target="file:///tmp/home/.config/libreoffice/4/user/gallery/worse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wmf"/><Relationship Id="rId3" Type="http://schemas.openxmlformats.org/officeDocument/2006/relationships/audio" Target="file:///tmp/home/.config/libreoffice/4/user/gallery/badfeel2.wav" TargetMode="External"/><Relationship Id="rId4" Type="http://schemas.microsoft.com/office/2007/relationships/media" Target="file:///tmp/home/.config/libreoffice/4/user/gallery/badfeel2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audio" Target="file:///tmp/home/.config/libreoffice/4/user/gallery/dontthnk.wav" TargetMode="External"/><Relationship Id="rId4" Type="http://schemas.microsoft.com/office/2007/relationships/media" Target="file:///tmp/home/.config/libreoffice/4/user/gallery/dontthnk.wav" TargetMode="External"/><Relationship Id="rId5" Type="http://schemas.openxmlformats.org/officeDocument/2006/relationships/image" Target="../media/image5.png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wmf"/><Relationship Id="rId3" Type="http://schemas.openxmlformats.org/officeDocument/2006/relationships/audio" Target="file:///tmp/home/.config/libreoffice/4/user/gallery/speechls.wav" TargetMode="External"/><Relationship Id="rId4" Type="http://schemas.microsoft.com/office/2007/relationships/media" Target="file:///tmp/home/.config/libreoffice/4/user/gallery/speechls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wmf"/><Relationship Id="rId3" Type="http://schemas.openxmlformats.org/officeDocument/2006/relationships/audio" Target="file:///tmp/home/.config/libreoffice/4/user/gallery/popquiz.wav" TargetMode="External"/><Relationship Id="rId4" Type="http://schemas.microsoft.com/office/2007/relationships/media" Target="file:///tmp/home/.config/libreoffice/4/user/gallery/popquiz.wav" TargetMode="External"/><Relationship Id="rId5" Type="http://schemas.openxmlformats.org/officeDocument/2006/relationships/image" Target="../media/image5.png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wmf"/><Relationship Id="rId3" Type="http://schemas.openxmlformats.org/officeDocument/2006/relationships/audio" Target="file:///tmp/home/.config/libreoffice/4/user/gallery/fact1.wav" TargetMode="External"/><Relationship Id="rId4" Type="http://schemas.microsoft.com/office/2007/relationships/media" Target="file:///tmp/home/.config/libreoffice/4/user/gallery/fact1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wmf"/><Relationship Id="rId3" Type="http://schemas.openxmlformats.org/officeDocument/2006/relationships/audio" Target="file:///tmp/home/.config/libreoffice/4/user/gallery/perhaps.wav" TargetMode="External"/><Relationship Id="rId4" Type="http://schemas.microsoft.com/office/2007/relationships/media" Target="file:///tmp/home/.config/libreoffice/4/user/gallery/perhaps.wav" TargetMode="External"/><Relationship Id="rId5" Type="http://schemas.openxmlformats.org/officeDocument/2006/relationships/image" Target="../media/image5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wmf"/><Relationship Id="rId3" Type="http://schemas.openxmlformats.org/officeDocument/2006/relationships/audio" Target="file:///tmp/home/.config/libreoffice/4/user/gallery/hibaby.wav" TargetMode="External"/><Relationship Id="rId4" Type="http://schemas.microsoft.com/office/2007/relationships/media" Target="file:///tmp/home/.config/libreoffice/4/user/gallery/hibaby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audio" Target="file:///tmp/home/.config/libreoffice/4/user/gallery/ohjoy.wav" TargetMode="External"/><Relationship Id="rId4" Type="http://schemas.microsoft.com/office/2007/relationships/media" Target="file:///tmp/home/.config/libreoffice/4/user/gallery/ohjoy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wmf"/><Relationship Id="rId3" Type="http://schemas.openxmlformats.org/officeDocument/2006/relationships/audio" Target="file:///tmp/home/.config/libreoffice/4/user/gallery/stufterb.wav" TargetMode="External"/><Relationship Id="rId4" Type="http://schemas.microsoft.com/office/2007/relationships/media" Target="file:///tmp/home/.config/libreoffice/4/user/gallery/stufterb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audio" Target="file:///tmp/home/.config/libreoffice/4/user/gallery/hooha!.wav" TargetMode="External"/><Relationship Id="rId4" Type="http://schemas.microsoft.com/office/2007/relationships/media" Target="file:///tmp/home/.config/libreoffice/4/user/gallery/hooha!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audio" Target="file:///tmp/home/.config/libreoffice/4/user/gallery/shezzam.wav" TargetMode="External"/><Relationship Id="rId4" Type="http://schemas.microsoft.com/office/2007/relationships/media" Target="file:///tmp/home/.config/libreoffice/4/user/gallery/shezzam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audio" Target="file:///tmp/home/.config/libreoffice/4/user/gallery/carbrake.wav" TargetMode="External"/><Relationship Id="rId4" Type="http://schemas.microsoft.com/office/2007/relationships/media" Target="file:///tmp/home/.config/libreoffice/4/user/gallery/carbrake.wav" TargetMode="External"/><Relationship Id="rId5" Type="http://schemas.openxmlformats.org/officeDocument/2006/relationships/image" Target="../media/image5.png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audio" Target="../media/carbrake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audio" Target="file:///tmp/home/.config/libreoffice/4/user/gallery/elgetout.wav" TargetMode="External"/><Relationship Id="rId4" Type="http://schemas.microsoft.com/office/2007/relationships/media" Target="file:///tmp/home/.config/libreoffice/4/user/gallery/elgetout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wmf"/><Relationship Id="rId3" Type="http://schemas.openxmlformats.org/officeDocument/2006/relationships/audio" Target="file:///tmp/home/.config/libreoffice/4/user/gallery/usetheforce.wav" TargetMode="External"/><Relationship Id="rId4" Type="http://schemas.microsoft.com/office/2007/relationships/media" Target="file:///tmp/home/.config/libreoffice/4/user/gallery/usetheforce.wav" TargetMode="External"/><Relationship Id="rId5" Type="http://schemas.openxmlformats.org/officeDocument/2006/relationships/image" Target="../media/image5.png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wmf"/><Relationship Id="rId3" Type="http://schemas.openxmlformats.org/officeDocument/2006/relationships/audio" Target="file:///usr/lib/libreoffice/share/gallery/sounds/laser.wav" TargetMode="External"/><Relationship Id="rId4" Type="http://schemas.microsoft.com/office/2007/relationships/media" Target="file:///usr/lib/libreoffice/share/gallery/sounds/laser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wmf"/><Relationship Id="rId3" Type="http://schemas.openxmlformats.org/officeDocument/2006/relationships/audio" Target="file:///tmp/home/.config/libreoffice/4/user/gallery/jamesbrw.wav" TargetMode="External"/><Relationship Id="rId4" Type="http://schemas.microsoft.com/office/2007/relationships/media" Target="file:///tmp/home/.config/libreoffice/4/user/gallery/jamesbrw.wav" TargetMode="External"/><Relationship Id="rId5" Type="http://schemas.openxmlformats.org/officeDocument/2006/relationships/image" Target="../media/image5.png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rregular Preterit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6688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several irregular verbs in the preterite.  In this presentation, we’ll take a look at the most important 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d16579_" descr=""/>
          <p:cNvPicPr/>
          <p:nvPr/>
        </p:nvPicPr>
        <p:blipFill>
          <a:blip r:embed="rId2"/>
          <a:stretch/>
        </p:blipFill>
        <p:spPr>
          <a:xfrm>
            <a:off x="2438280" y="1981080"/>
            <a:ext cx="1760760" cy="2819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276720" y="5257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wo more ending in –S-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are two more irregular preterite forms that both happen to end in –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er &gt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s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er &gt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is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y guesses as to what their forms a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bd06098_" descr=""/>
          <p:cNvPicPr/>
          <p:nvPr/>
        </p:nvPicPr>
        <p:blipFill>
          <a:blip r:embed="rId2"/>
          <a:stretch/>
        </p:blipFill>
        <p:spPr>
          <a:xfrm>
            <a:off x="2209680" y="2057400"/>
            <a:ext cx="2416320" cy="3048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20040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3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3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3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3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3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3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3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700"/>
                            </p:stCondLst>
                            <p:childTnLst>
                              <p:par>
                                <p:cTn id="2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" dur="1719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9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Muy bien!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ner 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 pu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pu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 pu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sotros pu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os pu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e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er 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 qui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qui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 qui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sotros qui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os qui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e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j0078629" descr=""/>
          <p:cNvPicPr/>
          <p:nvPr/>
        </p:nvPicPr>
        <p:blipFill>
          <a:blip r:embed="rId2"/>
          <a:stretch/>
        </p:blipFill>
        <p:spPr>
          <a:xfrm>
            <a:off x="1828800" y="2133720"/>
            <a:ext cx="2919240" cy="2963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276720" y="5562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7" dur="181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53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wo more ending in –J-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ore irregular preterite forms that happen to end in –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er &gt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r &gt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bd06665_" descr=""/>
          <p:cNvPicPr/>
          <p:nvPr/>
        </p:nvPicPr>
        <p:blipFill>
          <a:blip r:embed="rId2"/>
          <a:stretch/>
        </p:blipFill>
        <p:spPr>
          <a:xfrm>
            <a:off x="2590920" y="1981080"/>
            <a:ext cx="1900080" cy="2743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581280" y="5257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7" dur="1222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57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y are these special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876560" y="1981080"/>
            <a:ext cx="422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er &gt;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 traj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traj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s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él traj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sotros traj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ellos traj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r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r &gt;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 dij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dij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s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él dij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sotros dij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ellos dij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r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nding for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lo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m is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–er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without the –i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e01451_" descr=""/>
          <p:cNvPicPr/>
          <p:nvPr/>
        </p:nvPicPr>
        <p:blipFill>
          <a:blip r:embed="rId2"/>
          <a:stretch/>
        </p:blipFill>
        <p:spPr>
          <a:xfrm>
            <a:off x="1752480" y="2514600"/>
            <a:ext cx="2559240" cy="21366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124080" y="4876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2542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1"/>
                </p:tgtEl>
              </p:cMediaNode>
            </p:audio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Hacer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cer 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c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 hic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ic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él hiz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sotros hic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os hic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e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like the other irregular preterites, except it makes a spelling change in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c- &gt; hiz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bd05961_" descr=""/>
          <p:cNvPicPr/>
          <p:nvPr/>
        </p:nvPicPr>
        <p:blipFill>
          <a:blip r:embed="rId2"/>
          <a:stretch/>
        </p:blipFill>
        <p:spPr>
          <a:xfrm>
            <a:off x="2133720" y="2286000"/>
            <a:ext cx="2330280" cy="274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12408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3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3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3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3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3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3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3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3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3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3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3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3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3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3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3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3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400"/>
                            </p:stCondLst>
                            <p:childTnLst>
                              <p:par>
                                <p:cTn id="4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7" dur="2757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5"/>
                </p:tgtEl>
              </p:cMediaNode>
            </p:audio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How about a two-for-one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800240" y="1981080"/>
            <a:ext cx="43052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 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=   ir 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 fu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fu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 fu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sotros fu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os fu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the same form for both verbs, and the endings are not identical to the other irregular preterite verb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bd06809_" descr=""/>
          <p:cNvPicPr/>
          <p:nvPr/>
        </p:nvPicPr>
        <p:blipFill>
          <a:blip r:embed="rId2"/>
          <a:stretch/>
        </p:blipFill>
        <p:spPr>
          <a:xfrm>
            <a:off x="2209680" y="2057400"/>
            <a:ext cx="2198880" cy="27432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200400" y="5257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4" dur="1823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9"/>
                </p:tgtEl>
              </p:cMediaNode>
            </p:audio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wo “kind of” irregular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72392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 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-   /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 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 di / yo 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diste 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vi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 dio / él v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sotros dimos / vi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os dieron / vie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saw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previous presentation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orks in the same way, even though it’s 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–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er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bd06094_" descr=""/>
          <p:cNvPicPr/>
          <p:nvPr/>
        </p:nvPicPr>
        <p:blipFill>
          <a:blip r:embed="rId2"/>
          <a:stretch/>
        </p:blipFill>
        <p:spPr>
          <a:xfrm>
            <a:off x="1976400" y="1981080"/>
            <a:ext cx="1625760" cy="2438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2971800" y="4876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1" dur="161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73"/>
                </p:tgtEl>
              </p:cMediaNode>
            </p:audio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ow!  That’s a lot to digest!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s, it is.  So let’s pract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e02974_" descr=""/>
          <p:cNvPicPr/>
          <p:nvPr/>
        </p:nvPicPr>
        <p:blipFill>
          <a:blip r:embed="rId2"/>
          <a:stretch/>
        </p:blipFill>
        <p:spPr>
          <a:xfrm>
            <a:off x="1612800" y="1981080"/>
            <a:ext cx="2570400" cy="3048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200400" y="5334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7" dur="2052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77"/>
                </p:tgtEl>
              </p:cMediaNode>
            </p:audio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l fin de semana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495680" y="1981080"/>
            <a:ext cx="4610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ye, Teresa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 [tú] _______ (hacer) este fin de semana pas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 hermana y yo _______ (ir) al cen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Por qué _______ (ir) ustedes allí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 (querer) ver una p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cula.  ________ (ver) la nueva con Sean Conne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bd06201_" descr=""/>
          <p:cNvPicPr/>
          <p:nvPr/>
        </p:nvPicPr>
        <p:blipFill>
          <a:blip r:embed="rId2"/>
          <a:stretch/>
        </p:blipFill>
        <p:spPr>
          <a:xfrm>
            <a:off x="1981080" y="2057400"/>
            <a:ext cx="2233800" cy="23335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124080" y="5105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3" dur="1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81"/>
                </p:tgtEl>
              </p:cMediaNode>
            </p:audio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l fin de semana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495680" y="1981080"/>
            <a:ext cx="4610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ye, Teresa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icis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e fin de semana pasa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 hermana y y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uim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 cen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Por qué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uer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stedes allí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isim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er una p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cula.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im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nueva con Sean Conn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bd06201_" descr=""/>
          <p:cNvPicPr/>
          <p:nvPr/>
        </p:nvPicPr>
        <p:blipFill>
          <a:blip r:embed="rId2"/>
          <a:stretch/>
        </p:blipFill>
        <p:spPr>
          <a:xfrm>
            <a:off x="1981080" y="2057400"/>
            <a:ext cx="2233800" cy="23335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200400" y="495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2" dur="829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85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an you guess…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are som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rregular preterit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s. Can you guess what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s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erb form might b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tu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sotro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j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lo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e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bd06089_" descr=""/>
          <p:cNvPicPr/>
          <p:nvPr/>
        </p:nvPicPr>
        <p:blipFill>
          <a:blip r:embed="rId2"/>
          <a:stretch/>
        </p:blipFill>
        <p:spPr>
          <a:xfrm>
            <a:off x="1981080" y="2133720"/>
            <a:ext cx="2803680" cy="2971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20040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65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7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Una visita al m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édico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266720" y="1981080"/>
            <a:ext cx="4838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a, Juan!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de [tú] ______ (estar) ayer?  Yo no te _____ (ver) en la clase de contabi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 no _____ (poder) venir a clase porque ______ (tener) una fieb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fever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_____ (ir) al médico.  Él me ______ (poner) una inyección y me _______ (dar) una recet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prescription]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pués yo _____ (venir) a la escuela, pero ______ (llegar) muy tarde y no _______ (poder) entrar en la cl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bd06527_" descr=""/>
          <p:cNvPicPr/>
          <p:nvPr/>
        </p:nvPicPr>
        <p:blipFill>
          <a:blip r:embed="rId2"/>
          <a:stretch/>
        </p:blipFill>
        <p:spPr>
          <a:xfrm>
            <a:off x="1905120" y="2666880"/>
            <a:ext cx="2361960" cy="15433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2895480" y="4648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8" dur="2322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89"/>
                </p:tgtEl>
              </p:cMediaNode>
            </p:audio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Una visita al m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édico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266720" y="1981080"/>
            <a:ext cx="4838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a, Juan!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stuvis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yer?  Yo no t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la clase de contabi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 n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u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nir a clase porque tuve una fiebre 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u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 médico.  Él m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u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a inyección y m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a rece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pués y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la escuela, per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legu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y tarde y n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u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ar en la cl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bd06527_" descr=""/>
          <p:cNvPicPr/>
          <p:nvPr/>
        </p:nvPicPr>
        <p:blipFill>
          <a:blip r:embed="rId2"/>
          <a:stretch/>
        </p:blipFill>
        <p:spPr>
          <a:xfrm>
            <a:off x="1905120" y="2666880"/>
            <a:ext cx="2361960" cy="15433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048120" y="4572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4" dur="2160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93"/>
                </p:tgtEl>
              </p:cMediaNode>
            </p:audio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a fiesta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191120" y="1981080"/>
            <a:ext cx="491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yer mi familia y yo ______ (tener) una fiesta especial para mi abuela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 ______ (cumplir) los 80 años, y muchos familiar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elatives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_ (venir) a la fiesta y le ______ (traer) regalos bonitos.  Todos le ______ (decir), “Felicidades” y le _____ (dar) abrazo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ugs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bd05413_" descr=""/>
          <p:cNvPicPr/>
          <p:nvPr/>
        </p:nvPicPr>
        <p:blipFill>
          <a:blip r:embed="rId2"/>
          <a:stretch/>
        </p:blipFill>
        <p:spPr>
          <a:xfrm>
            <a:off x="1676520" y="1981080"/>
            <a:ext cx="2170080" cy="21891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2971800" y="4572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2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97"/>
                </p:tgtEl>
              </p:cMediaNode>
            </p:audio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a fiesta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191120" y="1981080"/>
            <a:ext cx="491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yer mi familia y y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uvim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a fiesta especial para mi abuela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umpli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os 80 años, y muchos familiar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inier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la fiesta y l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jer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galos bonitos.  Todos l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jer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“Felicidades” y l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er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braz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bd05413_" descr=""/>
          <p:cNvPicPr/>
          <p:nvPr/>
        </p:nvPicPr>
        <p:blipFill>
          <a:blip r:embed="rId2"/>
          <a:stretch/>
        </p:blipFill>
        <p:spPr>
          <a:xfrm>
            <a:off x="1676520" y="1981080"/>
            <a:ext cx="2170080" cy="2189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2819520" y="4495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9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2" dur="1381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01"/>
                </p:tgtEl>
              </p:cMediaNode>
            </p:audio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et’s wrap it up!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114800" y="1981080"/>
            <a:ext cx="4991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rregular preterite verbs that we have seen in this presentation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: di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r: dij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r: estuv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cer: hic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: fu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er: pud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ner: pus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er: qui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ber: sup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: fu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er: tuv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er: traj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ir: vin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: vi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so02464_" descr=""/>
          <p:cNvPicPr/>
          <p:nvPr/>
        </p:nvPicPr>
        <p:blipFill>
          <a:blip r:embed="rId2"/>
          <a:stretch/>
        </p:blipFill>
        <p:spPr>
          <a:xfrm>
            <a:off x="1828800" y="2590920"/>
            <a:ext cx="1898640" cy="2133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2743200" y="5105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3900"/>
                            </p:stCondLst>
                            <p:childTnLst>
                              <p:par>
                                <p:cTn id="6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1" dur="1139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05"/>
                </p:tgtEl>
              </p:cMediaNode>
            </p:audio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at else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26672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ndings do not have accent mar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 tuv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tuv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 tuv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sotros tuv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os tuv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e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in mind special cases, such 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ir, traer, ser, ir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c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If you can’t remember why these verbs are special, flip through the slides one more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bd06089_" descr=""/>
          <p:cNvPicPr/>
          <p:nvPr/>
        </p:nvPicPr>
        <p:blipFill>
          <a:blip r:embed="rId2"/>
          <a:stretch/>
        </p:blipFill>
        <p:spPr>
          <a:xfrm>
            <a:off x="1828800" y="2362320"/>
            <a:ext cx="2084400" cy="22096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2971800" y="5105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1" dur="1685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09"/>
                </p:tgtEl>
              </p:cMediaNode>
            </p:audio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on’t worry…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starts getting easier with the next verb set, #13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an00106_" descr=""/>
          <p:cNvPicPr/>
          <p:nvPr/>
        </p:nvPicPr>
        <p:blipFill>
          <a:blip r:embed="rId2"/>
          <a:stretch/>
        </p:blipFill>
        <p:spPr>
          <a:xfrm>
            <a:off x="1905120" y="2286000"/>
            <a:ext cx="2787480" cy="2395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276720" y="5181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7" dur="11917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13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¿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ómo te salió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ne &gt; ven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uvo &gt; 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jimos &gt; trae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ron &gt; van / 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irregular preterite forms resemble their present forms, while others do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an00790_" descr=""/>
          <p:cNvPicPr/>
          <p:nvPr/>
        </p:nvPicPr>
        <p:blipFill>
          <a:blip r:embed="rId2"/>
          <a:stretch/>
        </p:blipFill>
        <p:spPr>
          <a:xfrm>
            <a:off x="1905120" y="2057400"/>
            <a:ext cx="2527200" cy="2635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124080" y="4876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077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1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Bas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you learn the irregula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 them b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ms first.  Start with these f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r 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tu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er 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ir 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er 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d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ber 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bd05378_" descr=""/>
          <p:cNvPicPr/>
          <p:nvPr/>
        </p:nvPicPr>
        <p:blipFill>
          <a:blip r:embed="rId2"/>
          <a:stretch/>
        </p:blipFill>
        <p:spPr>
          <a:xfrm>
            <a:off x="1828800" y="2666880"/>
            <a:ext cx="2711520" cy="1648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048120" y="4876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004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5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kay, now what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r &gt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tu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 estuv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estuv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 estuv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sotros estuv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os estuv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y, no accent mark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bd06223_" descr=""/>
          <p:cNvPicPr/>
          <p:nvPr/>
        </p:nvPicPr>
        <p:blipFill>
          <a:blip r:embed="rId2"/>
          <a:stretch/>
        </p:blipFill>
        <p:spPr>
          <a:xfrm>
            <a:off x="1905120" y="2133720"/>
            <a:ext cx="2781360" cy="2789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276720" y="5410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1103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9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ry one yourself!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er &gt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v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 tuv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tuv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 tuv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sotros tuv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os tuv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an00790_" descr=""/>
          <p:cNvPicPr/>
          <p:nvPr/>
        </p:nvPicPr>
        <p:blipFill>
          <a:blip r:embed="rId2"/>
          <a:stretch/>
        </p:blipFill>
        <p:spPr>
          <a:xfrm>
            <a:off x="1981080" y="2057400"/>
            <a:ext cx="2527560" cy="2635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124080" y="495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543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3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How’d you do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er &gt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 tuv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tuv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 tuv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sotros tuv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os tuv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an02131_" descr=""/>
          <p:cNvPicPr/>
          <p:nvPr/>
        </p:nvPicPr>
        <p:blipFill>
          <a:blip r:embed="rId2"/>
          <a:stretch/>
        </p:blipFill>
        <p:spPr>
          <a:xfrm>
            <a:off x="1981080" y="1981080"/>
            <a:ext cx="2335320" cy="2895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124080" y="5181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75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75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75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75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75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75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75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75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75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75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125"/>
                            </p:stCondLst>
                            <p:childTnLst>
                              <p:par>
                                <p:cTn id="1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3846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7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Here’s another for good measure.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ir &gt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n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 vin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vin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 vin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sotros vin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os vin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bd06093_" descr=""/>
          <p:cNvPicPr/>
          <p:nvPr/>
        </p:nvPicPr>
        <p:blipFill>
          <a:blip r:embed="rId2"/>
          <a:stretch/>
        </p:blipFill>
        <p:spPr>
          <a:xfrm>
            <a:off x="2209680" y="2057400"/>
            <a:ext cx="2351160" cy="2743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352680" y="50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3598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1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How’d you do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ir &gt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 vi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vi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 vi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sotros vi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os vi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an02131_" descr=""/>
          <p:cNvPicPr/>
          <p:nvPr/>
        </p:nvPicPr>
        <p:blipFill>
          <a:blip r:embed="rId2"/>
          <a:stretch/>
        </p:blipFill>
        <p:spPr>
          <a:xfrm>
            <a:off x="1981080" y="1981080"/>
            <a:ext cx="2335320" cy="28958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2895480" y="5257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75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75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75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75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75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75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125"/>
                            </p:stCondLst>
                            <p:childTnLst>
                              <p:par>
                                <p:cTn id="2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" dur="4168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5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2T13:43:22Z</dcterms:created>
  <dc:creator>test</dc:creator>
  <dc:description/>
  <dc:language>en-US</dc:language>
  <cp:lastModifiedBy>Mike Robinson</cp:lastModifiedBy>
  <dcterms:modified xsi:type="dcterms:W3CDTF">2003-05-08T15:49:11Z</dcterms:modified>
  <cp:revision>12</cp:revision>
  <dc:subject/>
  <dc:title>Irregular Preterite</dc:title>
</cp:coreProperties>
</file>